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306-154E-4924-944E-F63D8D39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6D8-8AC0-4DD5-8F93-6E2942F6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723-8124-4F39-80CC-BF07C00C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206-3C37-4F50-B6FF-09667905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67D8-84C9-4FC2-ABDC-C74DAABB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D006-05F7-4CBE-A3ED-5D00F5A4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83BB-7BBC-47DC-8986-CF93DD0B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56D0-6593-4C72-AA08-49495903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CEFF-E452-4E81-AE55-F1E3BD1A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3FAB-87AE-4F90-923D-3875B42B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CDE8-6907-4B30-8720-18C5D2F2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B56-7D56-4970-B1F1-B61CB3BC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CA13-2C56-427E-87D4-97148ADD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B140-0FF1-4599-8200-35C7AC5E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0135-74A3-4B41-883B-639353AF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80CB-D014-45F9-91EC-A8150A2A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B4D0-CC07-47A4-AE90-93245F97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D15-442D-4CF7-8C1A-818F00F1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4CC-5D46-455E-82DE-6F7323AF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531-11CA-48F0-BFFF-368E6F6A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C28-06DC-4F6A-BB26-E27C8FB9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F9C-0B87-43B1-9677-9BB5899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269-E37B-4299-9DBB-8F355B32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842-4AC5-470D-8BBC-1FC8D3F6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63CF-76B7-454E-9735-302F1BC345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E9CC-7488-4D85-B37D-B02399AA5C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Технологическая карта урока как одна из форм подготовки учителя к уроку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347640" y="4292280"/>
            <a:ext cx="51102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СО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ершина Татья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Что даёт использование 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8569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ганизовать эффективный учебный процес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еспечить реализацию УУ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кратить время на подготовку учителя к уро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Параметры карт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апы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держание учебного матери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тоды и приёмы организации УД обучающих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ятельность учащихся и деятельность обучающих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Технологическая карта позволит учителю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изовать планируемые результаты ФГОС второго поко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но формировать у учащихся У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ировать свою деятельность на четверть, полугодие,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практике реализовать межпредметные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ять диагностику достижения планируемых результатов учащимися на каждом этапе освоения 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Параметры уро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19280" y="2060640"/>
            <a:ext cx="58435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вание этапа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и этапа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держание эта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ятельность учи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ятельность учащих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Возможности технологической карты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щательное планирование каждого этапа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ксимально полное отражение последовательности всех осуществляемых действий и операций, приводящих к намеченному результа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ординация и синхронизация действий всех субъектов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ведение самооценки учащихся на каждом этапе у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Этапы работы над технологической картой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 места урока в изучаемой теме и его в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рмулировка цели урока (образовательные, развивающие, воспитательны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означение этапов урока в соответствии с его ви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рмулировка цели каждого этапа у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 результатов каждого этапа (формируемые УУД, продук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бор форм работы на уроке (индивидуальная, фронтальная, парная, группова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работка характеристики деятельности учителя и уче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Структура технологической карты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67564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тивация к учебной деятель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туализация знаний и фиксация затруднений в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явление места и причины затруд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роение проекта выхода из затруд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ализация построенного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ичное закрепление с проговариванием во внешней 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ая работа с самопроверкой по этало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ключение в систему зна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флексия учебной деятельности (итог урок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6:24:30Z</dcterms:created>
  <dc:creator>user</dc:creator>
  <dc:description/>
  <dc:language>en-US</dc:language>
  <cp:lastModifiedBy>user</cp:lastModifiedBy>
  <dcterms:modified xsi:type="dcterms:W3CDTF">2013-03-04T01:46:03Z</dcterms:modified>
  <cp:revision>5</cp:revision>
  <dc:subject/>
  <dc:title>Технологическая карта урока как одна из форм подготовки учителя к уроку</dc:title>
</cp:coreProperties>
</file>